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5DC1D-B1E1-42BB-BD0D-8BD4329A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7727-3907-4E0F-9B6A-65AC17AF5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7653D-EB7A-4E91-86B6-895218E41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B9743-82DB-4764-B2C3-183DB5CE0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CB426-67ED-4C5C-A7E9-DE326CE0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60213-5AC9-4B1C-B128-804C3D67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BC6F-2057-4F94-894E-D238C8E5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3452-B4E4-4FD3-AB55-BE53AE5D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A153-176F-4550-B7CE-0EA96578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3F43-0F5E-4164-9D85-722A9144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9343-2CD2-4C69-B1CE-A26325961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A694-F2F1-455B-8A3B-679B66620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9401-6F8C-47E3-B0FF-70DED7B87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2 Chapter 1 Fac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vor Tya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ic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 Verdad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523880" y="1371600"/>
            <a:ext cx="6782040" cy="506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bu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bus was and intelligent and dedicated mariner who was very ski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aving read Marco Polo’s account of his adventures in the service of Kublai Khan, decided that these rich lands could be reached by sailing w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ch lands he was seeking was China and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ns and Europea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anish sent conquistadores to meet the Ind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quistadores read a decree to the Indians out of earshot of the Ind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the Indians retaliated, the Spaniards decimated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aniards did so easily because they were iron clad in armor and armed with steel weapons while the Indians were buck naked and una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and Population Loss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agree on the fact that the Indian population rapidly declined when the Spanish arr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due to the fact that the Spanish brought with them diseases unknown to the Indians, therefore they had no immunity to the diseases and they succumbed to them one b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in’s European Riv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s rival is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133720" y="2438280"/>
            <a:ext cx="5181480" cy="388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testant Reform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uption within the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n Luther’s  objection to corrupt manner of promoting and selling indulgences acted as an immediate cause of the Reformation. </a:t>
            </a:r>
            <a:endParaRPr b="0" lang="en-US" sz="3200" spc="-1" strike="noStrike">
              <a:solidFill>
                <a:srgbClr val="000000"/>
              </a:solidFill>
              <a:latin typeface="Arial"/>
            </a:endParaRPr>
          </a:p>
        </p:txBody>
      </p:sp>
      <p:pic>
        <p:nvPicPr>
          <p:cNvPr id="54" name="" descr=""/>
          <p:cNvPicPr/>
          <p:nvPr/>
        </p:nvPicPr>
        <p:blipFill>
          <a:blip r:embed="rId1"/>
          <a:stretch/>
        </p:blipFill>
        <p:spPr>
          <a:xfrm>
            <a:off x="0" y="4245120"/>
            <a:ext cx="9144000" cy="23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 Beginnings in Americ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ventures- Not sponsored by the cr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discover passages to Or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interests are primary motivations behind English development, evidencing early support for capitalism; these biases are unfortunate as they do not parallel national interes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and Dutch settle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in the St. Lawrence River area.</a:t>
            </a:r>
            <a:br>
              <a:rPr sz="3200"/>
            </a:br>
            <a:r>
              <a:rPr b="0" lang="en-US" sz="3200" spc="-1" strike="noStrike">
                <a:solidFill>
                  <a:srgbClr val="000000"/>
                </a:solidFill>
                <a:latin typeface="Arial"/>
              </a:rPr>
              <a:t>Dutch in the Hudson River Valley were great traders due to their domination of sea trade and interior trade posts. They also traded with the Native Americans for f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ch also terrorized Spanish galle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many Indians perish with European settl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17:59:31Z</dcterms:created>
  <dc:creator>Trevor</dc:creator>
  <dc:description/>
  <dc:language>en-US</dc:language>
  <cp:lastModifiedBy>Trevor</cp:lastModifiedBy>
  <dcterms:modified xsi:type="dcterms:W3CDTF">2011-09-21T06:05:38Z</dcterms:modified>
  <cp:revision>10</cp:revision>
  <dc:subject/>
  <dc:title>Group 2 Chapter 1 Facts</dc:title>
</cp:coreProperties>
</file>